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13.wmf" ContentType="image/x-wmf"/>
  <Override PartName="/ppt/media/image27.jpeg" ContentType="image/jpeg"/>
  <Override PartName="/ppt/media/image36.wmf" ContentType="image/x-wmf"/>
  <Override PartName="/ppt/media/image35.wmf" ContentType="image/x-wmf"/>
  <Override PartName="/ppt/media/image16.jpeg" ContentType="image/jpeg"/>
  <Override PartName="/ppt/media/image4.jpeg" ContentType="image/jpeg"/>
  <Override PartName="/ppt/media/image8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12.png" ContentType="image/pn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FB4E-C0C0-4CCD-B2AB-A30E239C9E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18AF-32B9-4EC1-851C-2AFB70C33FF2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5147-CB7E-4FA3-811E-F577B0505AE0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A0B4-AC3B-407C-B164-5763E101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A4DE-4B5F-4040-85CA-B7016F32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2C0-DC27-4AF0-AF98-431D6DF1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ABF-015F-45E7-90FC-468D3F9C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B5E8-31F0-402B-92E7-2026DE33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71E8-27F2-4E1E-B2F8-2825C128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E9D9-1F52-4363-8AEE-A43AFEBC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9780-A152-4E5C-9CE9-BFC3BFD4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354D-D46C-4987-8152-5D2342F5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16B4-56F1-4A25-9B70-13F7FA7C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A9CE-F90C-4E88-A602-663C0498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F7C-303A-46A5-94AD-DE35FC56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BEA7-42DD-4D8C-8AC8-BC0952FD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0A7C-9BEF-499A-BD7D-3551AB28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C3C0-3268-4B8F-838F-95365761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65D8-CEEA-4B33-A6E1-15C094AD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EEFE-B5C8-4FCF-8A82-C5A5B8BD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29F-7F02-41CE-858E-8438941A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9884-D3D4-454A-9777-023A0F2B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4A6C-C136-46F6-BBEE-4C59489A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799-A6AD-408B-AB84-1FCCF543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3FD-B552-45FC-8198-B3E334C2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AEB9-690A-4071-8FB3-C507AF88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2CF2-D76F-4554-A7E8-D1F4F72F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2A01-E73B-4EF2-A7C1-E9FBD95E59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5156-B635-43B4-A838-C524FDC1FB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6640" y="836640"/>
            <a:ext cx="799128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br>
              <a:rPr sz="3800"/>
            </a:br>
            <a:r>
              <a:rPr b="1" lang="ru-RU" sz="66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1" lang="ru-RU" sz="6600" spc="-1" strike="noStrike">
                <a:solidFill>
                  <a:srgbClr val="c00000"/>
                </a:solidFill>
                <a:latin typeface="Times New Roman"/>
              </a:rPr>
              <a:t>Ребенок </a:t>
            </a:r>
            <a:br>
              <a:rPr sz="6600"/>
            </a:br>
            <a:r>
              <a:rPr b="1" lang="ru-RU" sz="6600" spc="-1" strike="noStrike">
                <a:solidFill>
                  <a:srgbClr val="c00000"/>
                </a:solidFill>
                <a:latin typeface="Times New Roman"/>
              </a:rPr>
              <a:t>на улицах города</a:t>
            </a:r>
            <a:br>
              <a:rPr sz="44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(из опыта работы)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2400" spc="-1" strike="noStrike">
                <a:solidFill>
                  <a:srgbClr val="610061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10061"/>
                </a:solidFill>
                <a:latin typeface="Times New Roman"/>
              </a:rPr>
              <a:t>Воспитатель: Назаренко Л. И.</a:t>
            </a:r>
            <a:br>
              <a:rPr sz="38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1403280" y="4221000"/>
            <a:ext cx="6858000" cy="11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8cff"/>
                </a:solidFill>
                <a:latin typeface="Arial"/>
              </a:rPr>
              <a:t>Подготовительная групп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8c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8cff"/>
                </a:solidFill>
                <a:latin typeface="Arial"/>
              </a:rPr>
              <a:t>общеразвивающей направленност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8c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8cff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8cff"/>
                </a:solidFill>
                <a:latin typeface="Arial"/>
              </a:rPr>
              <a:t>МБДОУ ДС №8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8c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8cff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8cff"/>
                </a:solidFill>
                <a:latin typeface="Arial"/>
              </a:rPr>
              <a:t>«Снеговичок«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8c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86800" cy="11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Решение проблемных ситуаций на игровых панно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4436640"/>
            <a:ext cx="7772400" cy="16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 Закреплять знания, что такое перекресток, правила поведения во время игры во дворе, как правильно переходить дорогу (не торопясь, не разговаривая, держась за руку взрослых, не переходить наперекосяк, а только поперек и на зеленый св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DSC05544"/>
          <p:cNvPicPr/>
          <p:nvPr/>
        </p:nvPicPr>
        <p:blipFill>
          <a:blip r:embed="rId1"/>
          <a:stretch/>
        </p:blipFill>
        <p:spPr>
          <a:xfrm>
            <a:off x="1476360" y="191628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Users\Дмитрий\Desktop\ФОТОСПОРТ\DSCN1535.JPG"/>
          <p:cNvPicPr/>
          <p:nvPr/>
        </p:nvPicPr>
        <p:blipFill>
          <a:blip r:embed="rId2"/>
          <a:stretch/>
        </p:blipFill>
        <p:spPr>
          <a:xfrm>
            <a:off x="5200560" y="1865160"/>
            <a:ext cx="29718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Рассматривание иллюстраций и сюжетных картинок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71640" y="3645000"/>
            <a:ext cx="777240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товыст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DSC04452"/>
          <p:cNvPicPr/>
          <p:nvPr/>
        </p:nvPicPr>
        <p:blipFill>
          <a:blip r:embed="rId1"/>
          <a:stretch/>
        </p:blipFill>
        <p:spPr>
          <a:xfrm>
            <a:off x="3492360" y="3716280"/>
            <a:ext cx="3789360" cy="1459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:\Users\Дмитрий\Desktop\ФОТОСПОРТ\DSCN1483.JPG"/>
          <p:cNvPicPr/>
          <p:nvPr/>
        </p:nvPicPr>
        <p:blipFill>
          <a:blip r:embed="rId2"/>
          <a:stretch/>
        </p:blipFill>
        <p:spPr>
          <a:xfrm>
            <a:off x="5724360" y="1773360"/>
            <a:ext cx="2440080" cy="1830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C:\Users\Дмитрий\Desktop\ФОТОСПОРТ\DSCN1525.JPG"/>
          <p:cNvPicPr/>
          <p:nvPr/>
        </p:nvPicPr>
        <p:blipFill>
          <a:blip r:embed="rId3"/>
          <a:stretch/>
        </p:blipFill>
        <p:spPr>
          <a:xfrm>
            <a:off x="1754280" y="1773360"/>
            <a:ext cx="2495520" cy="18716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1"/>
          <p:cNvSpPr/>
          <p:nvPr/>
        </p:nvSpPr>
        <p:spPr>
          <a:xfrm>
            <a:off x="1258920" y="5172120"/>
            <a:ext cx="71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 Обсуждение и решение проблемных ситуаций и дорожных «ловушек». Нахождение правильного выхода из опасных дорожных происшеств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Закрепление правил дорожного движения в продуктивных видах деятельност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Picture 9" descr="DSC05391"/>
          <p:cNvPicPr/>
          <p:nvPr/>
        </p:nvPicPr>
        <p:blipFill>
          <a:blip r:embed="rId1"/>
          <a:stretch/>
        </p:blipFill>
        <p:spPr>
          <a:xfrm>
            <a:off x="3564000" y="1773360"/>
            <a:ext cx="2631960" cy="1973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Дмитрий\Desktop\ФОТОСПОРТ\DSCN1486.JPG"/>
          <p:cNvPicPr/>
          <p:nvPr/>
        </p:nvPicPr>
        <p:blipFill>
          <a:blip r:embed="rId2"/>
          <a:stretch/>
        </p:blipFill>
        <p:spPr>
          <a:xfrm>
            <a:off x="1116000" y="2421000"/>
            <a:ext cx="2290680" cy="1719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Дмитрий\Desktop\ФОТОСПОРТ\DSCN1488.JPG"/>
          <p:cNvPicPr/>
          <p:nvPr/>
        </p:nvPicPr>
        <p:blipFill>
          <a:blip r:embed="rId3"/>
          <a:stretch/>
        </p:blipFill>
        <p:spPr>
          <a:xfrm>
            <a:off x="6372360" y="2421000"/>
            <a:ext cx="2396880" cy="179856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1"/>
          <p:cNvSpPr/>
          <p:nvPr/>
        </p:nvSpPr>
        <p:spPr>
          <a:xfrm>
            <a:off x="971640" y="4581360"/>
            <a:ext cx="748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 Отражать свои впечатления, полученные от увиденного в реальной жизни в продуктивных видах деятельности. Развивать внимание, воображение, пространственные представления. Воспитывать выдержку, терпение, умение доводить начатое до конц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Театрализованное представление по ПДД «Волк и семеро козлят»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7" name="Picture 2" descr="C:\Users\Дмитрий\Desktop\всёподряд\ПЛАН ДОУ 8 2013 г\Газета+Козлики\DSCN0425.JPG"/>
          <p:cNvPicPr/>
          <p:nvPr/>
        </p:nvPicPr>
        <p:blipFill>
          <a:blip r:embed="rId1"/>
          <a:stretch/>
        </p:blipFill>
        <p:spPr>
          <a:xfrm>
            <a:off x="1258920" y="1700280"/>
            <a:ext cx="3211560" cy="2408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C:\Users\Дмитрий\Desktop\всёподряд\ПЛАН ДОУ 8 2013 г\Газета+Козлики\DSCN0416.JPG"/>
          <p:cNvPicPr/>
          <p:nvPr/>
        </p:nvPicPr>
        <p:blipFill>
          <a:blip r:embed="rId2"/>
          <a:stretch/>
        </p:blipFill>
        <p:spPr>
          <a:xfrm>
            <a:off x="5375160" y="1700280"/>
            <a:ext cx="2325960" cy="1746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C:\Users\Дмитрий\Desktop\всёподряд\ПЛАН ДОУ 8 2013 г\Газета+Козлики\DSCN0408.JPG"/>
          <p:cNvPicPr/>
          <p:nvPr/>
        </p:nvPicPr>
        <p:blipFill>
          <a:blip r:embed="rId3"/>
          <a:stretch/>
        </p:blipFill>
        <p:spPr>
          <a:xfrm>
            <a:off x="6372360" y="3581280"/>
            <a:ext cx="2355840" cy="176688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1"/>
          <p:cNvSpPr/>
          <p:nvPr/>
        </p:nvSpPr>
        <p:spPr>
          <a:xfrm>
            <a:off x="900000" y="4464000"/>
            <a:ext cx="511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еплять дорожные знак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поведения во время игры во дворе. Показать последствия детских шалостей около проезжей ча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85988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Родителям рекомендовала проводить с детьми семейные экскурсии по   улицам города, объясняя детям и показывая личным примером правила поведения на дорогах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4581360"/>
            <a:ext cx="77724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большим интересом детьми совместно с родителями была составлена схема микрорайона. На схеме обозначаются названия улиц, места перехода через дорог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DSC05433"/>
          <p:cNvPicPr/>
          <p:nvPr/>
        </p:nvPicPr>
        <p:blipFill>
          <a:blip r:embed="rId1"/>
          <a:srcRect l="4510" t="6224" r="0" b="8151"/>
          <a:stretch/>
        </p:blipFill>
        <p:spPr>
          <a:xfrm>
            <a:off x="5064120" y="2065320"/>
            <a:ext cx="3419640" cy="2298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DSC05434"/>
          <p:cNvPicPr/>
          <p:nvPr/>
        </p:nvPicPr>
        <p:blipFill>
          <a:blip r:embed="rId2"/>
          <a:stretch/>
        </p:blipFill>
        <p:spPr>
          <a:xfrm>
            <a:off x="1908000" y="2065320"/>
            <a:ext cx="22942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В группе оборудован для детей уголок безопасност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436536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родителями проводится рабо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а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бес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DSC05585"/>
          <p:cNvPicPr/>
          <p:nvPr/>
        </p:nvPicPr>
        <p:blipFill>
          <a:blip r:embed="rId1"/>
          <a:stretch/>
        </p:blipFill>
        <p:spPr>
          <a:xfrm>
            <a:off x="5292720" y="191628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C:\Users\asus\Desktop\Ф\DSC09410.JPG"/>
          <p:cNvPicPr/>
          <p:nvPr/>
        </p:nvPicPr>
        <p:blipFill>
          <a:blip r:embed="rId2"/>
          <a:stretch/>
        </p:blipFill>
        <p:spPr>
          <a:xfrm>
            <a:off x="1332000" y="1916280"/>
            <a:ext cx="2917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914400" y="184464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о научить ребенка не только знаниям и навыкам полезной деятельности в предстоящей ему жизни, но и знаниям и навыкам, как эту жизнь сохранить, как остаться живым и здоровым в окружающей человека среде, полной скрытых опас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900000" y="549360"/>
            <a:ext cx="777240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19ff"/>
                </a:solidFill>
                <a:latin typeface="Arial"/>
              </a:rPr>
              <a:t>Спасибо за внимание!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19ff"/>
              </a:solidFill>
              <a:latin typeface="Arial"/>
              <a:ea typeface="Arial"/>
            </a:endParaRPr>
          </a:p>
        </p:txBody>
      </p:sp>
      <p:pic>
        <p:nvPicPr>
          <p:cNvPr id="171" name="Picture 6" descr="j0205462"/>
          <p:cNvPicPr/>
          <p:nvPr/>
        </p:nvPicPr>
        <p:blipFill>
          <a:blip r:embed="rId1"/>
          <a:stretch/>
        </p:blipFill>
        <p:spPr>
          <a:xfrm>
            <a:off x="6516720" y="4581360"/>
            <a:ext cx="1819080" cy="1810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j0183328"/>
          <p:cNvPicPr/>
          <p:nvPr/>
        </p:nvPicPr>
        <p:blipFill>
          <a:blip r:embed="rId2"/>
          <a:stretch/>
        </p:blipFill>
        <p:spPr>
          <a:xfrm>
            <a:off x="3059280" y="4797360"/>
            <a:ext cx="18064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Arial"/>
              </a:rPr>
              <a:t>Образовательная область «Безопасность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: создать условия для активной поисковой и творческой деятельности по усвоению и соблюдению правил дорожного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а: продолжать учить правильному поведению в общественных местах, на дорогах, в транспорте, при переходе ул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j0235319"/>
          <p:cNvPicPr/>
          <p:nvPr/>
        </p:nvPicPr>
        <p:blipFill>
          <a:blip r:embed="rId1"/>
          <a:stretch/>
        </p:blipFill>
        <p:spPr>
          <a:xfrm>
            <a:off x="7093080" y="4797360"/>
            <a:ext cx="1784160" cy="1822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j0212957"/>
          <p:cNvPicPr/>
          <p:nvPr/>
        </p:nvPicPr>
        <p:blipFill>
          <a:blip r:embed="rId2"/>
          <a:stretch/>
        </p:blipFill>
        <p:spPr>
          <a:xfrm>
            <a:off x="4356000" y="5157720"/>
            <a:ext cx="1830600" cy="1149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j0251871"/>
          <p:cNvPicPr/>
          <p:nvPr/>
        </p:nvPicPr>
        <p:blipFill>
          <a:blip r:embed="rId3"/>
          <a:stretch/>
        </p:blipFill>
        <p:spPr>
          <a:xfrm>
            <a:off x="971640" y="5013360"/>
            <a:ext cx="1904760" cy="123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Arial"/>
              </a:rPr>
              <a:t>Основные направления работ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4292280"/>
            <a:ext cx="77868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еда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ры личной безопасности при нахождении на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 закрепить правила поведения на улице: надо быть внимательным, идти только по тротуару, по правой его стороне, переходить улицу по специально выделенному переходу – «зебре», если нарушишь эти правила, можно попасть под ма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C:\Users\Дмитрий\Desktop\ФОТОСПОРТ\DSCN1470.JPG"/>
          <p:cNvPicPr/>
          <p:nvPr/>
        </p:nvPicPr>
        <p:blipFill>
          <a:blip r:embed="rId1"/>
          <a:stretch/>
        </p:blipFill>
        <p:spPr>
          <a:xfrm>
            <a:off x="1403280" y="1650960"/>
            <a:ext cx="2911680" cy="2184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C:\Users\Дмитрий\Desktop\ФОТОСПОРТ\DSCN1473.JPG"/>
          <p:cNvPicPr/>
          <p:nvPr/>
        </p:nvPicPr>
        <p:blipFill>
          <a:blip r:embed="rId2"/>
          <a:stretch/>
        </p:blipFill>
        <p:spPr>
          <a:xfrm>
            <a:off x="5076720" y="1650960"/>
            <a:ext cx="30085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Беседа:</a:t>
            </a: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 Зеленый, желтый, красный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 закрепить с детьми знания правил уличного движения; знать, что люди переходят улицу по переходам при разрешающем сигнале светофора, знать назначение и сигналы светофора; уметь определять по сигналу светофора, в каком направлении разрешено движение транспорта и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C:\Users\Дмитрий\Desktop\ФОТОСПОРТ\DSCN1472.JPG"/>
          <p:cNvPicPr/>
          <p:nvPr/>
        </p:nvPicPr>
        <p:blipFill>
          <a:blip r:embed="rId1"/>
          <a:stretch/>
        </p:blipFill>
        <p:spPr>
          <a:xfrm>
            <a:off x="1378080" y="1641600"/>
            <a:ext cx="2813040" cy="2109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C:\Users\Дмитрий\Desktop\ФОТОСПОРТ\DSCN1485.JPG"/>
          <p:cNvPicPr/>
          <p:nvPr/>
        </p:nvPicPr>
        <p:blipFill>
          <a:blip r:embed="rId2"/>
          <a:stretch/>
        </p:blipFill>
        <p:spPr>
          <a:xfrm>
            <a:off x="5322960" y="1600200"/>
            <a:ext cx="2917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Занятие:</a:t>
            </a: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 Зачем нужны дорожные знак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640" y="4437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 Закрепить знания детей о правилах поведения на улице: вспомнить известные дорожные знаки –предупреждающие (переход, «зебра», внимание, осторожно, дети),запрещающие (движение запрещено, въезд запрещен), указательные (столовая, больница, телефо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2" descr="j0278882"/>
          <p:cNvPicPr/>
          <p:nvPr/>
        </p:nvPicPr>
        <p:blipFill>
          <a:blip r:embed="rId1"/>
          <a:stretch/>
        </p:blipFill>
        <p:spPr>
          <a:xfrm>
            <a:off x="4356000" y="2565360"/>
            <a:ext cx="905040" cy="90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:\Users\Дмитрий\Desktop\ФОТОСПОРТ\DSCN1611.JPG"/>
          <p:cNvPicPr/>
          <p:nvPr/>
        </p:nvPicPr>
        <p:blipFill>
          <a:blip r:embed="rId2"/>
          <a:stretch/>
        </p:blipFill>
        <p:spPr>
          <a:xfrm>
            <a:off x="1490760" y="1963800"/>
            <a:ext cx="2813040" cy="2108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Users\Дмитрий\Desktop\ФОТОСПОРТ\DSCN1601.JPG"/>
          <p:cNvPicPr/>
          <p:nvPr/>
        </p:nvPicPr>
        <p:blipFill>
          <a:blip r:embed="rId3"/>
          <a:stretch/>
        </p:blipFill>
        <p:spPr>
          <a:xfrm>
            <a:off x="5508720" y="1967040"/>
            <a:ext cx="28083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Д/игры:</a:t>
            </a: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«Дорожные знаки», «Мой друг – светофор», «Дорожные ловушки»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429264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 учить детей находить сюжетные картинки, соответствующие определенным дорожным знакам; закреплять сигналы светофора и их назначение; закреплять правила поведения на улицах 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DSC05553"/>
          <p:cNvPicPr/>
          <p:nvPr/>
        </p:nvPicPr>
        <p:blipFill>
          <a:blip r:embed="rId1"/>
          <a:stretch/>
        </p:blipFill>
        <p:spPr>
          <a:xfrm>
            <a:off x="1258920" y="184464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5148360" y="1908000"/>
            <a:ext cx="297504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Сюжетно-ролевые игры:</a:t>
            </a: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 «Мы шоферы», «СТО», «ДПС»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443664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 проигрывание и решение проблемных ситуаций, происходящих на дорогах города; закрепление правил дорожного движения, правил для пешеходов, поведения на остановках, в автобус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4" descr="j0211949"/>
          <p:cNvPicPr/>
          <p:nvPr/>
        </p:nvPicPr>
        <p:blipFill>
          <a:blip r:embed="rId1"/>
          <a:stretch/>
        </p:blipFill>
        <p:spPr>
          <a:xfrm>
            <a:off x="6948360" y="5373720"/>
            <a:ext cx="1900440" cy="1165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C:\Users\Дмитрий\Desktop\ФОТОСПОРТ\DSCN1467.JPG"/>
          <p:cNvPicPr/>
          <p:nvPr/>
        </p:nvPicPr>
        <p:blipFill>
          <a:blip r:embed="rId2"/>
          <a:stretch/>
        </p:blipFill>
        <p:spPr>
          <a:xfrm>
            <a:off x="971640" y="1773360"/>
            <a:ext cx="3430440" cy="2573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C:\Users\Дмитрий\Desktop\ФОТОСПОРТ\DSCN1450.JPG"/>
          <p:cNvPicPr/>
          <p:nvPr/>
        </p:nvPicPr>
        <p:blipFill>
          <a:blip r:embed="rId3"/>
          <a:stretch/>
        </p:blipFill>
        <p:spPr>
          <a:xfrm>
            <a:off x="4932360" y="1773360"/>
            <a:ext cx="34336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Сюжетно-ролевая игра:</a:t>
            </a: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 «Мы едем, едем в далекие края»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4" name="Picture 5" descr="C:\Users\Дмитрий\Desktop\ФОТОСПОРТ\DSCN1469.JPG"/>
          <p:cNvPicPr/>
          <p:nvPr/>
        </p:nvPicPr>
        <p:blipFill>
          <a:blip r:embed="rId1"/>
          <a:stretch/>
        </p:blipFill>
        <p:spPr>
          <a:xfrm>
            <a:off x="5940360" y="1773360"/>
            <a:ext cx="2225880" cy="2774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Users\Дмитрий\Desktop\ФОТОСПОРТ\DSCN1538.JPG"/>
          <p:cNvPicPr/>
          <p:nvPr/>
        </p:nvPicPr>
        <p:blipFill>
          <a:blip r:embed="rId2"/>
          <a:stretch/>
        </p:blipFill>
        <p:spPr>
          <a:xfrm>
            <a:off x="1403280" y="1773360"/>
            <a:ext cx="3306960" cy="247968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"/>
          <p:cNvSpPr/>
          <p:nvPr/>
        </p:nvSpPr>
        <p:spPr>
          <a:xfrm>
            <a:off x="684360" y="4889520"/>
            <a:ext cx="799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ять  правила поведения в общественном транспорте, на остановках, во время игры во дворе и при переходе проезжей части.  Называть городской транспорт,  машины спецназначения и их примене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Подвижные игры: «Живые знаки», «Кто быстрее перевезет груз», «Светофор»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4508640"/>
            <a:ext cx="7772400" cy="16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 развивать силу, выдержку, выносливость, внимание, которые так необходимы для безопасного поведения на дорогах нашего гор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C:\Users\Дмитрий\Desktop\ФОТОСПОРТ\DSCN1478.JPG"/>
          <p:cNvPicPr/>
          <p:nvPr/>
        </p:nvPicPr>
        <p:blipFill>
          <a:blip r:embed="rId1"/>
          <a:stretch/>
        </p:blipFill>
        <p:spPr>
          <a:xfrm>
            <a:off x="1042920" y="1773360"/>
            <a:ext cx="3183120" cy="238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:\Users\Дмитрий\Desktop\ФОТОСПОРТ\DSCN1603.JPG"/>
          <p:cNvPicPr/>
          <p:nvPr/>
        </p:nvPicPr>
        <p:blipFill>
          <a:blip r:embed="rId2"/>
          <a:stretch/>
        </p:blipFill>
        <p:spPr>
          <a:xfrm>
            <a:off x="5076720" y="1766880"/>
            <a:ext cx="314028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06:15:44Z</dcterms:created>
  <dc:creator>User</dc:creator>
  <dc:description/>
  <dc:language>en-US</dc:language>
  <cp:lastModifiedBy>Дмитрий</cp:lastModifiedBy>
  <dcterms:modified xsi:type="dcterms:W3CDTF">2015-06-09T18:13:34Z</dcterms:modified>
  <cp:revision>34</cp:revision>
  <dc:subject/>
  <dc:title>Слайд 1</dc:title>
</cp:coreProperties>
</file>